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C91C4-4BFF-4B2B-BAB7-BF23F96FD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27CB-A04C-4AAE-9148-770524212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8EE7F-1F64-4DE1-9877-282012BEC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E474B-6E16-4252-9A5D-F512B945A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92957-3BD4-4693-833B-557EE304E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42C0-755D-4E61-9EFC-A81E49D8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704A-E49C-49E7-BC2C-A52A5E69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9D613-C81E-48CF-9152-880D91E8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3789-03D5-4511-944E-46D53525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C6AA-D990-4F3A-A61B-5D18BDD6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B358-C35B-4B11-A1CE-CF164048B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69F4-A246-44DA-BFBA-D08C1E24B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CDC7-9BE1-4DAC-94F7-FB7485BFA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hs.gov/"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of Madin-Darby Canine Kidney (MDCK) Cells for Manufacture of Inactivated Influenza Vaccines:</a:t>
            </a:r>
            <a:br>
              <a:rPr sz="3600"/>
            </a:b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21932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ip R. Krause, M.D.</a:t>
            </a:r>
            <a:endParaRPr b="0" lang="en-US" sz="3200" spc="-1" strike="noStrike">
              <a:solidFill>
                <a:srgbClr val="000000"/>
              </a:solidFill>
              <a:latin typeface="Times New Roman"/>
            </a:endParaRPr>
          </a:p>
        </p:txBody>
      </p:sp>
      <p:pic>
        <p:nvPicPr>
          <p:cNvPr id="43" name="Picture 4" descr="hhsbird">
            <a:hlinkClick r:id="rId1"/>
          </p:cNvPr>
          <p:cNvPicPr/>
          <p:nvPr/>
        </p:nvPicPr>
        <p:blipFill>
          <a:blip r:embed="rId2"/>
          <a:stretch/>
        </p:blipFill>
        <p:spPr>
          <a:xfrm>
            <a:off x="182520" y="5715000"/>
            <a:ext cx="579600" cy="685800"/>
          </a:xfrm>
          <a:prstGeom prst="rect">
            <a:avLst/>
          </a:prstGeom>
          <a:ln w="9360">
            <a:solidFill>
              <a:srgbClr val="ffffff"/>
            </a:solidFill>
            <a:miter/>
          </a:ln>
        </p:spPr>
      </p:pic>
      <p:pic>
        <p:nvPicPr>
          <p:cNvPr id="44" name="Picture 5" descr="U.S. Food and Drug Administration"/>
          <p:cNvPicPr/>
          <p:nvPr/>
        </p:nvPicPr>
        <p:blipFill>
          <a:blip r:embed="rId3"/>
          <a:srcRect l="12371" t="0" r="70108" b="0"/>
          <a:stretch/>
        </p:blipFill>
        <p:spPr>
          <a:xfrm>
            <a:off x="739800" y="5791320"/>
            <a:ext cx="1165320" cy="685800"/>
          </a:xfrm>
          <a:prstGeom prst="rect">
            <a:avLst/>
          </a:prstGeom>
          <a:ln w="0">
            <a:noFill/>
          </a:ln>
        </p:spPr>
      </p:pic>
      <p:pic>
        <p:nvPicPr>
          <p:cNvPr id="45" name="Object 6" descr=""/>
          <p:cNvPicPr/>
          <p:nvPr/>
        </p:nvPicPr>
        <p:blipFill>
          <a:blip r:embed="rId4"/>
          <a:stretch/>
        </p:blipFill>
        <p:spPr>
          <a:xfrm>
            <a:off x="8153280" y="5638680"/>
            <a:ext cx="70812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286000" y="22860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lides will describe the past 10 or so years of CBER thinking about introduction of neoplastic cell substr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oplastic cells in use in 1995 for production of biologicals</a:t>
            </a:r>
            <a:endParaRPr b="0" lang="en-US" sz="3600" spc="-1" strike="noStrike">
              <a:solidFill>
                <a:srgbClr val="000000"/>
              </a:solidFill>
              <a:latin typeface="Times New Roman"/>
            </a:endParaRPr>
          </a:p>
        </p:txBody>
      </p:sp>
      <p:sp>
        <p:nvSpPr>
          <p:cNvPr id="75" name="PlaceHolder 2"/>
          <p:cNvSpPr>
            <a:spLocks noGrp="1"/>
          </p:cNvSpPr>
          <p:nvPr>
            <p:ph/>
          </p:nvPr>
        </p:nvSpPr>
        <p:spPr>
          <a:xfrm>
            <a:off x="533520" y="1980720"/>
            <a:ext cx="8153280" cy="4876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alwa cells for interfe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dent cells for monoclonal antibodies (hybridomas), therapeutic proteins (CHO and BHK), including CHO cells for investigational protein subunit vacci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cells are tumorigeni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infectious retroviruses are pres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amounts of viral elimination/inactivation (clearance) are require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least 6 logs clearance in excess of known retrovirus burden; can generally only be demonstrated with multiple “orthogonal step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o cells, at non-tumorigenic passages, used for production of inactivated poliovirus vacci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ent limitations on DNA cont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ly for inactivated vaccin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RBPAC discussions regarding neoplastic cell substrate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premise that full public discussion of transition to use of neoplastic cell substrates is importa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8: Initial discussion with committ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International cell substrate meeting &amp; report to VRBPA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 Discussion of the use of Vero cel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1: Discussion of 293 and PER.C6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19/1998 VRBPAC:</a:t>
            </a:r>
            <a:br>
              <a:rPr sz="4000"/>
            </a:br>
            <a:r>
              <a:rPr b="0" lang="en-US" sz="4000" spc="-1" strike="noStrike">
                <a:solidFill>
                  <a:srgbClr val="000000"/>
                </a:solidFill>
                <a:latin typeface="Times New Roman"/>
              </a:rPr>
              <a:t>Initial Discussion with Committee</a:t>
            </a:r>
            <a:endParaRPr b="0" lang="en-US" sz="4000" spc="-1" strike="noStrike">
              <a:solidFill>
                <a:srgbClr val="000000"/>
              </a:solidFill>
              <a:latin typeface="Times New Roman"/>
            </a:endParaRPr>
          </a:p>
        </p:txBody>
      </p:sp>
      <p:sp>
        <p:nvSpPr>
          <p:cNvPr id="79" name="PlaceHolder 2"/>
          <p:cNvSpPr>
            <a:spLocks noGrp="1"/>
          </p:cNvSpPr>
          <p:nvPr>
            <p:ph/>
          </p:nvPr>
        </p:nvSpPr>
        <p:spPr>
          <a:xfrm>
            <a:off x="304920" y="2362320"/>
            <a:ext cx="86868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tee recommend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of a document describing a proposed approach to addressing use of neoplastic cells in vaccine manufa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kshop to obtain public discussion of this document and additional scientific input on these issu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 dialogue with the advisory committe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to provide scientific foundation for decision-making regarding use of neoplastic cells in vaccine manufa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International Meeting: Evolving</a:t>
            </a:r>
            <a:br>
              <a:rPr sz="3200"/>
            </a:br>
            <a:r>
              <a:rPr b="0" lang="en-US" sz="3200" spc="-1" strike="noStrike">
                <a:solidFill>
                  <a:srgbClr val="000000"/>
                </a:solidFill>
                <a:latin typeface="Times New Roman"/>
              </a:rPr>
              <a:t>Scientific and Regulatory Perspectives on Cell</a:t>
            </a:r>
            <a:br>
              <a:rPr sz="3200"/>
            </a:br>
            <a:r>
              <a:rPr b="0" lang="en-US" sz="3200" spc="-1" strike="noStrike">
                <a:solidFill>
                  <a:srgbClr val="000000"/>
                </a:solidFill>
                <a:latin typeface="Times New Roman"/>
              </a:rPr>
              <a:t>Substrates for Vaccine Development</a:t>
            </a:r>
            <a:br>
              <a:rPr sz="3200"/>
            </a:br>
            <a:endParaRPr b="0" lang="en-US" sz="3200" spc="-1" strike="noStrike">
              <a:solidFill>
                <a:srgbClr val="000000"/>
              </a:solidFill>
              <a:latin typeface="Times New Roman"/>
            </a:endParaRPr>
          </a:p>
        </p:txBody>
      </p:sp>
      <p:sp>
        <p:nvSpPr>
          <p:cNvPr id="81" name="PlaceHolder 2"/>
          <p:cNvSpPr>
            <a:spLocks noGrp="1"/>
          </p:cNvSpPr>
          <p:nvPr>
            <p:ph/>
          </p:nvPr>
        </p:nvSpPr>
        <p:spPr>
          <a:xfrm>
            <a:off x="304560" y="2133360"/>
            <a:ext cx="8458200" cy="4190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nsored by: CBER, IABs, NIAID, NVPO, WH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d at 9/14/99 VRBPA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concerns &amp; iss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approaches to determine levels of risk associated with those iss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of CBER document prepared in response to 11/98 VRBPA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of “Defined-Risks Approach” as a conceptual framework for considering the issue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ed risks approach</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752480"/>
            <a:ext cx="8001000" cy="4572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s an attempt to establish, where possible, a quantitative conceptual framework for estimating upper bounds on potential risk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the possible risk even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ng or determining the frequency with which the risk event might occur or has been observed to occur, either in nature or under experimental condi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ng the possible frequency of the risk event per dose of vaccin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nd determining the sensitivity of one or more assays that can be used to detect the risk ev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nd validating one or more processes that can be used to establish a product-specific safety factor</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99 meeting: Scientific conclusions</a:t>
            </a:r>
            <a:endParaRPr b="0" lang="en-US" sz="4400" spc="-1" strike="noStrike">
              <a:solidFill>
                <a:srgbClr val="000000"/>
              </a:solidFill>
              <a:latin typeface="Times New Roman"/>
            </a:endParaRPr>
          </a:p>
        </p:txBody>
      </p:sp>
      <p:sp>
        <p:nvSpPr>
          <p:cNvPr id="85" name="PlaceHolder 2"/>
          <p:cNvSpPr>
            <a:spLocks noGrp="1"/>
          </p:cNvSpPr>
          <p:nvPr>
            <p:ph/>
          </p:nvPr>
        </p:nvSpPr>
        <p:spPr>
          <a:xfrm>
            <a:off x="0" y="1371240"/>
            <a:ext cx="9144000" cy="56386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actor nature of carcinogenesis suggests very low risk of oncogenicity from cellular components other than oncogenic viru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recognized </a:t>
            </a:r>
            <a:r>
              <a:rPr b="0" lang="en-US" sz="2400" spc="-1" strike="noStrike" u="sng">
                <a:solidFill>
                  <a:srgbClr val="000000"/>
                </a:solidFill>
                <a:uFillTx/>
                <a:latin typeface="Times New Roman"/>
              </a:rPr>
              <a:t>adventitious agents</a:t>
            </a:r>
            <a:r>
              <a:rPr b="0" lang="en-US" sz="2400" spc="-1" strike="noStrike">
                <a:solidFill>
                  <a:srgbClr val="000000"/>
                </a:solidFill>
                <a:latin typeface="Times New Roman"/>
              </a:rPr>
              <a:t> may be the major concern with neoplastic cell substra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 cells present greater risks for adventitious agents than neoplastic cell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from </a:t>
            </a:r>
            <a:r>
              <a:rPr b="0" lang="en-US" sz="2400" spc="-1" strike="noStrike" u="sng">
                <a:solidFill>
                  <a:srgbClr val="000000"/>
                </a:solidFill>
                <a:uFillTx/>
                <a:latin typeface="Times New Roman"/>
              </a:rPr>
              <a:t>residual DNA</a:t>
            </a:r>
            <a:r>
              <a:rPr b="0" lang="en-US" sz="2400" spc="-1" strike="noStrike">
                <a:solidFill>
                  <a:srgbClr val="000000"/>
                </a:solidFill>
                <a:latin typeface="Times New Roman"/>
              </a:rPr>
              <a:t> were perceived to be low, although there is a need for more scientific data to verify this percep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rus/cell interac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must be considered based on specific virus/cell substrate combinations, and any selective pressures in the cell culture syste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 was raised that neoplastic cells could contain abnormal PrP genes, of unclear signific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cell substrates using defined mechanisms of transformation should be consider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7617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RBPAC 2000: Issues/Topics regarding Vero cell use for vaccine manufactur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o cell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umorigenic, but have capacity to become tumorigenic upon repeated pass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of transformation is unknow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l experience exists using Vero cells in research and diagnost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level of testing detected no evidence for the presence of adventitious agen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RBPAC 2000: Conclusions/Recommendations on Vero cell use for vaccine manufacture</a:t>
            </a:r>
            <a:endParaRPr b="0" lang="en-US" sz="3600" spc="-1" strike="noStrike">
              <a:solidFill>
                <a:srgbClr val="000000"/>
              </a:solidFill>
              <a:latin typeface="Times New Roman"/>
            </a:endParaRPr>
          </a:p>
        </p:txBody>
      </p:sp>
      <p:sp>
        <p:nvSpPr>
          <p:cNvPr id="89" name="PlaceHolder 2"/>
          <p:cNvSpPr>
            <a:spLocks noGrp="1"/>
          </p:cNvSpPr>
          <p:nvPr>
            <p:ph/>
          </p:nvPr>
        </p:nvSpPr>
        <p:spPr>
          <a:xfrm>
            <a:off x="457200" y="2209680"/>
            <a:ext cx="8305920" cy="46483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ce of assuring removal of intact cells from vacc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ncern about parenteral than mucosal vaccines produced in Vero cel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concern expressed about use of Vero cells at tumorigenic passage level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embers expressed concern about using cells with the potential to become tumorigeni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DNA to 10 ng for vaccines produced in Vero cells at non-tumorigenic pass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533520" y="2590920"/>
            <a:ext cx="81532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3, PER.C6 cells for gene therapy products, investigational live adenovirus vectored vacc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ells allow replication of defective adenovirus vectors (PER.C6 designed to minimize RCA form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mechanism of transformation (Ad5 E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ells are weakly tumorigen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testing detected no evidence of the presence of adventitious agents</a:t>
            </a:r>
            <a:endParaRPr b="0" lang="en-US" sz="2400" spc="-1" strike="noStrike">
              <a:solidFill>
                <a:srgbClr val="000000"/>
              </a:solidFill>
              <a:latin typeface="Times New Roman"/>
            </a:endParaRPr>
          </a:p>
        </p:txBody>
      </p:sp>
      <p:sp>
        <p:nvSpPr>
          <p:cNvPr id="91" name="PlaceHolder 2"/>
          <p:cNvSpPr>
            <a:spLocks noGrp="1"/>
          </p:cNvSpPr>
          <p:nvPr>
            <p:ph type="title"/>
          </p:nvPr>
        </p:nvSpPr>
        <p:spPr>
          <a:xfrm>
            <a:off x="380880" y="6091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RBPAC 2001: Issues/Topics on </a:t>
            </a:r>
            <a:r>
              <a:rPr b="0" i="1" lang="en-US" sz="3600" spc="-1" strike="noStrike">
                <a:solidFill>
                  <a:srgbClr val="000000"/>
                </a:solidFill>
                <a:latin typeface="Times New Roman"/>
              </a:rPr>
              <a:t>in vitro-</a:t>
            </a:r>
            <a:r>
              <a:rPr b="0" lang="en-US" sz="3600" spc="-1" strike="noStrike">
                <a:solidFill>
                  <a:srgbClr val="000000"/>
                </a:solidFill>
                <a:latin typeface="Times New Roman"/>
              </a:rPr>
              <a:t>transformed neoplastic cells to produce replication-defective vacci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s and brief introduction to the  issu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history of thinking about neoplastic cell substrat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scientific concerns regarding use of neoplastic cell substrate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description of the plan for today’s meeting</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RBPAC 2000: PER.C6 and 293 cells for vaccine manufacture</a:t>
            </a:r>
            <a:endParaRPr b="0" lang="en-US" sz="4000" spc="-1" strike="noStrike">
              <a:solidFill>
                <a:srgbClr val="000000"/>
              </a:solidFill>
              <a:latin typeface="Times New Roman"/>
            </a:endParaRPr>
          </a:p>
        </p:txBody>
      </p:sp>
      <p:sp>
        <p:nvSpPr>
          <p:cNvPr id="93" name="PlaceHolder 2"/>
          <p:cNvSpPr>
            <a:spLocks noGrp="1"/>
          </p:cNvSpPr>
          <p:nvPr>
            <p:ph/>
          </p:nvPr>
        </p:nvSpPr>
        <p:spPr>
          <a:xfrm>
            <a:off x="457200" y="1905120"/>
            <a:ext cx="82296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value of these cells for manufacturing vectored viral vacc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role of known mechanism of transformation- including some skepticism that this provided a clear safety marg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importance of minimizing steps (i.e. initiation events) toward oncogenesis in vaccine recipients (even if oncogenic outcome is not directly correlated with use of neoplastic cells, it is important to assure that vaccine recipients are not “prim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5331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RBPAC 2001: PER.C6 and 293 cells for vaccine manufacture (continued)</a:t>
            </a:r>
            <a:endParaRPr b="0" lang="en-US" sz="3200" spc="-1" strike="noStrike">
              <a:solidFill>
                <a:srgbClr val="000000"/>
              </a:solidFill>
              <a:latin typeface="Times New Roman"/>
            </a:endParaRPr>
          </a:p>
        </p:txBody>
      </p:sp>
      <p:sp>
        <p:nvSpPr>
          <p:cNvPr id="95" name="PlaceHolder 2"/>
          <p:cNvSpPr>
            <a:spLocks noGrp="1"/>
          </p:cNvSpPr>
          <p:nvPr>
            <p:ph/>
          </p:nvPr>
        </p:nvSpPr>
        <p:spPr>
          <a:xfrm>
            <a:off x="609120" y="1599840"/>
            <a:ext cx="81536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adenovirus E1 gen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likelihood of uptake in a significant number of cell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ment in apoptosi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lihood of reaching tumor cell threshold dose necessary for clinical impa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whether degree of tumorigenicity was importan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ying opin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ed approach to TSE issues in neoplastic or retinal ce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that these cells could be used for manufacture of replication defective adenovirus vaccines, with appropriate limitation on residual D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743200" y="2057400"/>
            <a:ext cx="3657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lides will summarize the concerns that may be associated with introducing new neoplastic cell substr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morigenic cells may form tumors if transferred to a recipi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been reported with human cel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ly if cells are non-human, due to immunological xenograft rejection mechanism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by assuring (</a:t>
            </a:r>
            <a:r>
              <a:rPr b="0" i="1" lang="en-US" sz="2800" spc="-1" strike="noStrike">
                <a:solidFill>
                  <a:srgbClr val="000000"/>
                </a:solidFill>
                <a:latin typeface="Times New Roman"/>
              </a:rPr>
              <a:t>via</a:t>
            </a:r>
            <a:r>
              <a:rPr b="0" lang="en-US" sz="2800" spc="-1" strike="noStrike">
                <a:solidFill>
                  <a:srgbClr val="000000"/>
                </a:solidFill>
                <a:latin typeface="Times New Roman"/>
              </a:rPr>
              <a:t> validated methods) absence of intact cells in final product</a:t>
            </a:r>
            <a:endParaRPr b="0" lang="en-US" sz="2800" spc="-1" strike="noStrike">
              <a:solidFill>
                <a:srgbClr val="000000"/>
              </a:solidFill>
              <a:latin typeface="Times New Roman"/>
            </a:endParaRPr>
          </a:p>
        </p:txBody>
      </p:sp>
      <p:sp>
        <p:nvSpPr>
          <p:cNvPr id="9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use of neoplastic or tumorigenic cells-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828800"/>
            <a:ext cx="82296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considerations regarding adventitious ag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itious agents that may have induced the original neoplastic or tumorigenic phenotype may be present in the cell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viruses are known carcinogens in animals and human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plastic or tumorigenic cells may have expanded capacity to support viral replication, and thus be more likely to contain ag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ed to date b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ing use of tumorigenic cells to investigational inactivated vaccines for which high levels of purification is perform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ed testing for oncogenic and other agents</a:t>
            </a:r>
            <a:endParaRPr b="0" lang="en-US" sz="2000" spc="-1" strike="noStrike">
              <a:solidFill>
                <a:srgbClr val="000000"/>
              </a:solidFill>
              <a:latin typeface="Times New Roman"/>
            </a:endParaRPr>
          </a:p>
        </p:txBody>
      </p:sp>
      <p:sp>
        <p:nvSpPr>
          <p:cNvPr id="100" name="PlaceHolder 2"/>
          <p:cNvSpPr>
            <a:spLocks noGrp="1"/>
          </p:cNvSpPr>
          <p:nvPr>
            <p:ph type="title"/>
          </p:nvPr>
        </p:nvSpPr>
        <p:spPr>
          <a:xfrm>
            <a:off x="45684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use of neoplastic or tumorigenic cells-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idual DNA from tumorigenic cells may be infectious or oncogen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to date b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vivo</a:t>
            </a:r>
            <a:r>
              <a:rPr b="0" lang="en-US" sz="2400" spc="-1" strike="noStrike">
                <a:solidFill>
                  <a:srgbClr val="000000"/>
                </a:solidFill>
                <a:latin typeface="Times New Roman"/>
              </a:rPr>
              <a:t> oncogenicity testing on cell substrate D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 on quantity of D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 on biological function (i.e., size, other properties) of any residual DNA</a:t>
            </a:r>
            <a:endParaRPr b="0" lang="en-US" sz="2400" spc="-1" strike="noStrike">
              <a:solidFill>
                <a:srgbClr val="000000"/>
              </a:solidFill>
              <a:latin typeface="Times New Roman"/>
            </a:endParaRPr>
          </a:p>
        </p:txBody>
      </p:sp>
      <p:sp>
        <p:nvSpPr>
          <p:cNvPr id="102" name="PlaceHolder 2"/>
          <p:cNvSpPr>
            <a:spLocks noGrp="1"/>
          </p:cNvSpPr>
          <p:nvPr>
            <p:ph type="title"/>
          </p:nvPr>
        </p:nvSpPr>
        <p:spPr>
          <a:xfrm>
            <a:off x="380880" y="6091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use of neoplastic or tumorigenic cells-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6840" y="1980720"/>
            <a:ext cx="8534520" cy="4876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us-host and Virus-cell interactions: Vaccine virus may package cell DNA or incorporate cell elements that could be oncogenic, thus limiting ability to eliminate these theoretically oncogenic agents from vaccin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to date b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ion that final vaccine preparations do not contain transforming D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n issue for cytoplasmic RNA viruses like influenz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cases, inactivation of viral vaccine</a:t>
            </a: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228600" y="6091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use of neoplastic or tumorigenic cells-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04920" y="1980720"/>
            <a:ext cx="8686800" cy="487692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me other mechanism (e.g., oncogenic proteins, RNAs, or other factors that could induce heritable epigenetic changes) associated with immortalization or tumorigenicity could present a risk to the recipient of a vaccine manufactured in tumorigenic cells</a:t>
            </a:r>
            <a:endParaRPr b="0" lang="en-US" sz="3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d to date by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consensus that other such mechanisms are very unlikel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nly of weakly tumorigenic cell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vivo</a:t>
            </a:r>
            <a:r>
              <a:rPr b="0" lang="en-US" sz="2400" spc="-1" strike="noStrike">
                <a:solidFill>
                  <a:srgbClr val="000000"/>
                </a:solidFill>
                <a:latin typeface="Times New Roman"/>
              </a:rPr>
              <a:t> testing of cell lysates</a:t>
            </a:r>
            <a:endParaRPr b="0" lang="en-US" sz="24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2"/>
          <p:cNvSpPr>
            <a:spLocks noGrp="1"/>
          </p:cNvSpPr>
          <p:nvPr>
            <p:ph type="title"/>
          </p:nvPr>
        </p:nvSpPr>
        <p:spPr>
          <a:xfrm>
            <a:off x="45684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use of neoplastic or tumorigenic cells-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8377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rns regarding the tumorigenicity testing of neoplastic cell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3047760"/>
            <a:ext cx="777240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ously used tumorigenicity assays may not adequately define the tumorigenic phenotype or the risk associated with use of tumorigenic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for this meeting</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792468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of the use of MDCK cells, including those that are highly tumorigenic, in manufacture of inactivated influenza vacci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of OVRR approach to evaluate the safety of tumorigenic cells for use in vaccine pro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of any additional steps CBER should take to address issues associated with the use of neoplastic cell substra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oplastic cells (continuous cell li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s that are immortalized and can progress along the pathway to tumor form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morigenic cel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plastic cells that form tumors when injected into susceptible animal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tumorigenic cells- form tumors at low cell doses, or form metastatic tum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ly tumorigenic cells- form tumors only at higher cell do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s talk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rew Lewis: Regulatory implications of neoplastic cell substrate tumorigenic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fa Khan: Adventitious agent testing of novel cell substrates for vaccine manufa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ith Peden: Issues associated with residual cell substrate D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r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a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substrates used for vaccine p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676520"/>
            <a:ext cx="8077320" cy="49528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 cells &amp; Tissues (1954)</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f lymph for smallpox vaccines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key kidney cells for polio vaccin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ryonated hens’ eggs for influenza, yellow fever vaccin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ken embryo cell culture for measles, mumps vaccin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se brain for inactivated JEV vacci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diploid cells (introduced in 1960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C-5, WI-38 for rubella, varicella vaccin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 cells for highly purified, subunit investigational vaccines (1980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o cells at non-tumorigenic passages for highly purified, inactivated vaccine (IPV) (1980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o cells at non-tumorigenic passages for live-attenuated vaccines (late 1990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vitro</a:t>
            </a:r>
            <a:r>
              <a:rPr b="0" lang="en-US" sz="2000" spc="-1" strike="noStrike">
                <a:solidFill>
                  <a:srgbClr val="000000"/>
                </a:solidFill>
                <a:latin typeface="Times New Roman"/>
              </a:rPr>
              <a:t> transformed human cells (e.g., 293, PER.C6) for replication-defective recombinant vaccines (early 2000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MDCK cell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828800"/>
            <a:ext cx="7391520" cy="1447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relatively independent derivatives of the MDCK cell line have been describ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Rectangle 4"/>
          <p:cNvSpPr/>
          <p:nvPr/>
        </p:nvSpPr>
        <p:spPr>
          <a:xfrm>
            <a:off x="417960" y="6269040"/>
            <a:ext cx="318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Gaush, PSEBM, 1996 122:931</a:t>
            </a:r>
            <a:endParaRPr b="0" lang="en-US" sz="1600" spc="-1" strike="noStrike">
              <a:solidFill>
                <a:srgbClr val="000000"/>
              </a:solidFill>
              <a:latin typeface="Times New Roman"/>
            </a:endParaRPr>
          </a:p>
        </p:txBody>
      </p:sp>
      <p:sp>
        <p:nvSpPr>
          <p:cNvPr id="55" name="Text Box 5"/>
          <p:cNvSpPr/>
          <p:nvPr/>
        </p:nvSpPr>
        <p:spPr>
          <a:xfrm>
            <a:off x="2514600" y="3048120"/>
            <a:ext cx="4648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8, MDCK established from healthy female cocker spaniel</a:t>
            </a:r>
            <a:endParaRPr b="0" lang="en-US" sz="2400" spc="-1" strike="noStrike">
              <a:solidFill>
                <a:srgbClr val="000000"/>
              </a:solidFill>
              <a:latin typeface="Times New Roman"/>
            </a:endParaRPr>
          </a:p>
        </p:txBody>
      </p:sp>
      <p:sp>
        <p:nvSpPr>
          <p:cNvPr id="56" name="Text Box 6"/>
          <p:cNvSpPr/>
          <p:nvPr/>
        </p:nvSpPr>
        <p:spPr>
          <a:xfrm>
            <a:off x="3505320" y="43434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CK, ATCC</a:t>
            </a:r>
            <a:endParaRPr b="0" lang="en-US" sz="2400" spc="-1" strike="noStrike">
              <a:solidFill>
                <a:srgbClr val="000000"/>
              </a:solidFill>
              <a:latin typeface="Times New Roman"/>
            </a:endParaRPr>
          </a:p>
        </p:txBody>
      </p:sp>
      <p:sp>
        <p:nvSpPr>
          <p:cNvPr id="57" name="Text Box 7"/>
          <p:cNvSpPr/>
          <p:nvPr/>
        </p:nvSpPr>
        <p:spPr>
          <a:xfrm>
            <a:off x="182880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3 MDCK-USD</a:t>
            </a:r>
            <a:endParaRPr b="0" lang="en-US" sz="2400" spc="-1" strike="noStrike">
              <a:solidFill>
                <a:srgbClr val="000000"/>
              </a:solidFill>
              <a:latin typeface="Times New Roman"/>
            </a:endParaRPr>
          </a:p>
        </p:txBody>
      </p:sp>
      <p:sp>
        <p:nvSpPr>
          <p:cNvPr id="58" name="Text Box 8"/>
          <p:cNvSpPr/>
          <p:nvPr/>
        </p:nvSpPr>
        <p:spPr>
          <a:xfrm>
            <a:off x="487692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1 MDCK-NIH</a:t>
            </a:r>
            <a:endParaRPr b="0" lang="en-US" sz="2400" spc="-1" strike="noStrike">
              <a:solidFill>
                <a:srgbClr val="000000"/>
              </a:solidFill>
              <a:latin typeface="Times New Roman"/>
            </a:endParaRPr>
          </a:p>
        </p:txBody>
      </p:sp>
      <p:sp>
        <p:nvSpPr>
          <p:cNvPr id="59" name="Line 9"/>
          <p:cNvSpPr/>
          <p:nvPr/>
        </p:nvSpPr>
        <p:spPr>
          <a:xfrm>
            <a:off x="4572000" y="3886200"/>
            <a:ext cx="0" cy="457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0"/>
          <p:cNvSpPr/>
          <p:nvPr/>
        </p:nvSpPr>
        <p:spPr>
          <a:xfrm>
            <a:off x="6172200" y="4952880"/>
            <a:ext cx="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1"/>
          <p:cNvSpPr/>
          <p:nvPr/>
        </p:nvSpPr>
        <p:spPr>
          <a:xfrm>
            <a:off x="3200400" y="4952880"/>
            <a:ext cx="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2"/>
          <p:cNvSpPr/>
          <p:nvPr/>
        </p:nvSpPr>
        <p:spPr>
          <a:xfrm>
            <a:off x="3200400" y="49528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4"/>
          <p:cNvSpPr/>
          <p:nvPr/>
        </p:nvSpPr>
        <p:spPr>
          <a:xfrm flipV="1">
            <a:off x="4572000" y="4800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MDCK Cells being considered for use in manufacture of inactivated influenza vaccines?</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33530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us growth advanta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rapid scale-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bank &amp; thoroughly characterize cel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tion to serum-free growth</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Text Box 4"/>
          <p:cNvSpPr/>
          <p:nvPr/>
        </p:nvSpPr>
        <p:spPr>
          <a:xfrm>
            <a:off x="1135440" y="5410080"/>
            <a:ext cx="658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ers will provide more det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sues with MDCK Cell Substrate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line of MDCK cells was non tumorigen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DCK derivatives have been found to be highly tumorigeni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tumorigenic cell substrates have never been used to manufacture viral vacc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tumorigenic cell substrates pose significant regulatory challen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ing tumorigenic cell lines  for vaccine development</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s the repertoire of neoplastic cells that can be used in development of new vaccines, inclu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ally engineered viral vectored vacc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vacc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za vaccin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dem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are there concerns about tumorigenic cell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for increased risk of adventitious agent contamin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for increased risk associated with residual D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for increased risk associated with virus/cell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for other increased ris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ption of increased ri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12:14:45Z</dcterms:created>
  <dc:creator>p</dc:creator>
  <dc:description/>
  <dc:language>en-US</dc:language>
  <cp:lastModifiedBy>Hilary Butler</cp:lastModifiedBy>
  <dcterms:modified xsi:type="dcterms:W3CDTF">2013-06-05T06:16:16Z</dcterms:modified>
  <cp:revision>53</cp:revision>
  <dc:subject/>
  <dc:title>Use of MDCK Cells for Manufacture of Inactivated Influenza Vaccines: Introduction</dc:title>
</cp:coreProperties>
</file>